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0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32.png" ContentType="image/png"/>
  <Override PartName="/ppt/media/image25.jpeg" ContentType="image/jpeg"/>
  <Override PartName="/ppt/media/image31.png" ContentType="image/png"/>
  <Override PartName="/ppt/media/image36.png" ContentType="image/png"/>
  <Override PartName="/ppt/media/image63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42.png" ContentType="image/png"/>
  <Override PartName="/ppt/media/image57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35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3.jpeg" ContentType="image/jpeg"/>
  <Override PartName="/ppt/media/image34.png" ContentType="image/png"/>
  <Override PartName="/ppt/media/image44.png" ContentType="image/png"/>
  <Override PartName="/ppt/media/image41.jpeg" ContentType="image/jpeg"/>
  <Override PartName="/ppt/media/image54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6DB6-C650-4136-8833-176E88DC15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5D0-7273-4655-ABBD-E40EFD7001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jest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F10-CC71-408D-B2DB-196D5E5358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3E71-46D3-4388-88C4-CFB4A89CF5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4D0-5E96-4ECF-AE66-0BBF3AC8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E27-16DF-419D-BCC4-983476F1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9ED-69C2-4A63-9DCB-36F583E4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159-847D-450D-958B-A724E465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C98-92AD-46FD-8E0D-3A73D15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52F-8E56-45FC-859B-5A42B78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524-81D3-41DD-A259-CE7FA22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BF2-E7AF-4407-96C3-366D0B3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8DB-199E-4DF8-86ED-2EDA215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A18-8E88-4EC7-826E-78A8C81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372-2FB1-47D5-9B36-B4AC8DD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38B-2EB3-4BA2-AD33-50A6D95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DA1F-C651-47AD-B42D-05DBCDA345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0.jpeg"/><Relationship Id="rId5" Type="http://schemas.openxmlformats.org/officeDocument/2006/relationships/image" Target="../media/image52.png"/><Relationship Id="rId6" Type="http://schemas.openxmlformats.org/officeDocument/2006/relationships/image" Target="../media/image50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D11F-46B5-4612-AFA7-E183D61A12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raz 10" descr="make.jpg"/>
          <p:cNvPicPr/>
          <p:nvPr/>
        </p:nvPicPr>
        <p:blipFill>
          <a:blip r:embed="rId1"/>
          <a:stretch/>
        </p:blipFill>
        <p:spPr>
          <a:xfrm>
            <a:off x="6012000" y="692280"/>
            <a:ext cx="2554200" cy="2554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7640" y="4436640"/>
            <a:ext cx="64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podjęcie decyzji rzeczywiście rozwiąże nasz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ekonomicznie opłac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leg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le czasu zajmie nam wdrożenie wybranego rozwiązani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4"/>
          <p:cNvSpPr/>
          <p:nvPr/>
        </p:nvSpPr>
        <p:spPr>
          <a:xfrm>
            <a:off x="324000" y="1125360"/>
            <a:ext cx="597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zaprojektowanych wariantów – na tym etapie skupiamy się na analizie zaprojektowanych wcześniej rozwiązań w celu ustalenia, które z nich będą najbardziej optymalne dla nasz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11"/>
          <p:cNvSpPr/>
          <p:nvPr/>
        </p:nvSpPr>
        <p:spPr>
          <a:xfrm>
            <a:off x="324000" y="3500280"/>
            <a:ext cx="662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etapie oceny możemy zwrócić uwagę na następujące kwes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12" descr="pytanie.jpg"/>
          <p:cNvPicPr/>
          <p:nvPr/>
        </p:nvPicPr>
        <p:blipFill>
          <a:blip r:embed="rId2"/>
          <a:srcRect l="0" t="0" r="0" b="8126"/>
          <a:stretch/>
        </p:blipFill>
        <p:spPr>
          <a:xfrm>
            <a:off x="971640" y="4292640"/>
            <a:ext cx="1214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raz 12" descr="5184922710_d37ee0fd5b_m.jpg"/>
          <p:cNvPicPr/>
          <p:nvPr/>
        </p:nvPicPr>
        <p:blipFill>
          <a:blip r:embed="rId1"/>
          <a:stretch/>
        </p:blipFill>
        <p:spPr>
          <a:xfrm>
            <a:off x="11160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Obraz 5" descr="ok1.jpg"/>
          <p:cNvPicPr/>
          <p:nvPr/>
        </p:nvPicPr>
        <p:blipFill>
          <a:blip r:embed="rId2"/>
          <a:srcRect l="0" t="0" r="0" b="19144"/>
          <a:stretch/>
        </p:blipFill>
        <p:spPr>
          <a:xfrm>
            <a:off x="0" y="836640"/>
            <a:ext cx="2241720" cy="273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2124000" y="14130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warunków realizacji i wybór – jest to kluczowy etap, w którym podejmujemy decyzje odnośnie do wdrożenia jednego z możliwych rozwiązań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stotną kwestią na tym etapie jest rozważanie, czy wybrane przez nas rozwiązanie (decyzja) jest optymalne, czyli najlepsze z możliwych i dostępnych na daną chwil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7"/>
          <p:cNvSpPr/>
          <p:nvPr/>
        </p:nvSpPr>
        <p:spPr>
          <a:xfrm>
            <a:off x="395280" y="378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datkowym elementem jest określenie warunków realizacji, czyli poczynienie pewnych założeń, np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4356000" y="5157720"/>
            <a:ext cx="1656000" cy="631800"/>
            <a:chOff x="4356000" y="5157720"/>
            <a:chExt cx="1656000" cy="631800"/>
          </a:xfrm>
        </p:grpSpPr>
        <p:pic>
          <p:nvPicPr>
            <p:cNvPr id="161" name="Prostokąt zaokrąglony 14" descr=""/>
            <p:cNvPicPr/>
            <p:nvPr/>
          </p:nvPicPr>
          <p:blipFill>
            <a:blip r:embed="rId3"/>
            <a:stretch/>
          </p:blipFill>
          <p:spPr>
            <a:xfrm>
              <a:off x="4356000" y="5157720"/>
              <a:ext cx="165600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rostokąt 15"/>
            <p:cNvSpPr/>
            <p:nvPr/>
          </p:nvSpPr>
          <p:spPr>
            <a:xfrm>
              <a:off x="4455720" y="5238360"/>
              <a:ext cx="1397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asowy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upa 16"/>
          <p:cNvGrpSpPr/>
          <p:nvPr/>
        </p:nvGrpSpPr>
        <p:grpSpPr>
          <a:xfrm>
            <a:off x="4356000" y="5950080"/>
            <a:ext cx="1656000" cy="1088640"/>
            <a:chOff x="4356000" y="5950080"/>
            <a:chExt cx="1656000" cy="1088640"/>
          </a:xfrm>
        </p:grpSpPr>
        <p:pic>
          <p:nvPicPr>
            <p:cNvPr id="164" name="Prostokąt zaokrąglony 17" descr=""/>
            <p:cNvPicPr/>
            <p:nvPr/>
          </p:nvPicPr>
          <p:blipFill>
            <a:blip r:embed="rId4"/>
            <a:stretch/>
          </p:blipFill>
          <p:spPr>
            <a:xfrm>
              <a:off x="4356000" y="5950080"/>
              <a:ext cx="165600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rostokąt 18"/>
            <p:cNvSpPr/>
            <p:nvPr/>
          </p:nvSpPr>
          <p:spPr>
            <a:xfrm>
              <a:off x="4455720" y="6030360"/>
              <a:ext cx="1397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6"/>
          <p:cNvSpPr/>
          <p:nvPr/>
        </p:nvSpPr>
        <p:spPr>
          <a:xfrm>
            <a:off x="179280" y="1413000"/>
            <a:ext cx="4788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a efektów podjętej decyzji – etap ten polega głównie na sprawdzaniu, czy podjęta decyzja przyniosła taki efekt, jakiego się spodziewaliś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 kontroli  jest często niedoceniany i zapomina się o nim w procesie podejmowania decyzji, uważając, że wybór rozwiązania jest ostatnią czynnością w procesie podejmowania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590920" cy="3384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az 16" descr="5781379634_bda27c9f6b_m.jpg"/>
          <p:cNvPicPr/>
          <p:nvPr/>
        </p:nvPicPr>
        <p:blipFill>
          <a:blip r:embed="rId1"/>
          <a:stretch/>
        </p:blipFill>
        <p:spPr>
          <a:xfrm>
            <a:off x="1547640" y="382284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4"/>
          <p:cNvSpPr/>
          <p:nvPr/>
        </p:nvSpPr>
        <p:spPr>
          <a:xfrm>
            <a:off x="0" y="1125360"/>
            <a:ext cx="831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o proces, który możemy odnieść zarówno do prost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życia codziennego, jak również do bardzo ważnych, przełom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w życiu człowie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5"/>
          <p:cNvSpPr/>
          <p:nvPr/>
        </p:nvSpPr>
        <p:spPr>
          <a:xfrm>
            <a:off x="179280" y="2781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także istotne w życiu firm i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przypadku można wyróżni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upa 6"/>
          <p:cNvGrpSpPr/>
          <p:nvPr/>
        </p:nvGrpSpPr>
        <p:grpSpPr>
          <a:xfrm>
            <a:off x="4932360" y="3933720"/>
            <a:ext cx="2952720" cy="632160"/>
            <a:chOff x="4932360" y="3933720"/>
            <a:chExt cx="2952720" cy="632160"/>
          </a:xfrm>
        </p:grpSpPr>
        <p:pic>
          <p:nvPicPr>
            <p:cNvPr id="184" name="Prostokąt zaokrąglony 7" descr=""/>
            <p:cNvPicPr/>
            <p:nvPr/>
          </p:nvPicPr>
          <p:blipFill>
            <a:blip r:embed="rId2"/>
            <a:stretch/>
          </p:blipFill>
          <p:spPr>
            <a:xfrm>
              <a:off x="4932360" y="3933720"/>
              <a:ext cx="29527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8"/>
            <p:cNvSpPr/>
            <p:nvPr/>
          </p:nvSpPr>
          <p:spPr>
            <a:xfrm>
              <a:off x="5050800" y="401472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strategi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4932360" y="4724280"/>
            <a:ext cx="2952720" cy="630720"/>
            <a:chOff x="4932360" y="4724280"/>
            <a:chExt cx="2952720" cy="630720"/>
          </a:xfrm>
        </p:grpSpPr>
        <p:pic>
          <p:nvPicPr>
            <p:cNvPr id="187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932360" y="472428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11"/>
            <p:cNvSpPr/>
            <p:nvPr/>
          </p:nvSpPr>
          <p:spPr>
            <a:xfrm>
              <a:off x="5050800" y="480384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takty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12"/>
          <p:cNvGrpSpPr/>
          <p:nvPr/>
        </p:nvGrpSpPr>
        <p:grpSpPr>
          <a:xfrm>
            <a:off x="4932360" y="5516640"/>
            <a:ext cx="2952720" cy="631080"/>
            <a:chOff x="4932360" y="5516640"/>
            <a:chExt cx="2952720" cy="631080"/>
          </a:xfrm>
        </p:grpSpPr>
        <p:pic>
          <p:nvPicPr>
            <p:cNvPr id="190" name="Prostokąt zaokrąglony 13" descr=""/>
            <p:cNvPicPr/>
            <p:nvPr/>
          </p:nvPicPr>
          <p:blipFill>
            <a:blip r:embed="rId4"/>
            <a:stretch/>
          </p:blipFill>
          <p:spPr>
            <a:xfrm>
              <a:off x="4932360" y="551664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rostokąt 14"/>
            <p:cNvSpPr/>
            <p:nvPr/>
          </p:nvSpPr>
          <p:spPr>
            <a:xfrm>
              <a:off x="5050800" y="559656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operacyjn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4"/>
          <p:cNvSpPr/>
          <p:nvPr/>
        </p:nvSpPr>
        <p:spPr>
          <a:xfrm>
            <a:off x="0" y="3500280"/>
            <a:ext cx="45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trategicznych jest z reguły bardzo długi, tworzy się wiele możliwych scenariuszy rozwiązań. Ostateczne decyzje w tego typu przypadkach zapadają na najwyższych szczeblach firmy lub organizacj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kąt 5"/>
          <p:cNvSpPr/>
          <p:nvPr/>
        </p:nvSpPr>
        <p:spPr>
          <a:xfrm>
            <a:off x="250920" y="1268280"/>
            <a:ext cx="79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strategiczne – jest to najważniejszy rodzaj decyzji, jakie mogą być podejmowanie w firmie lub w organizacji. Decyzje te wyznaczają cele i zadania, strategie działania oraz kierunki rozwoju. Decyzje te podejmuje się z zasady bardzo rzadk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5189349510_14ecbeccb5_m.jpg"/>
          <p:cNvPicPr/>
          <p:nvPr/>
        </p:nvPicPr>
        <p:blipFill>
          <a:blip r:embed="rId1"/>
          <a:stretch/>
        </p:blipFill>
        <p:spPr>
          <a:xfrm>
            <a:off x="4643280" y="3213000"/>
            <a:ext cx="3645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az 16" descr="boss.jpg"/>
          <p:cNvPicPr/>
          <p:nvPr/>
        </p:nvPicPr>
        <p:blipFill>
          <a:blip r:embed="rId1"/>
          <a:stretch/>
        </p:blipFill>
        <p:spPr>
          <a:xfrm>
            <a:off x="3995640" y="314172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rostokąt 7"/>
          <p:cNvSpPr/>
          <p:nvPr/>
        </p:nvSpPr>
        <p:spPr>
          <a:xfrm>
            <a:off x="179280" y="371628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aktycznych odnosi się zwykle do krótszego okresu. Decyzje taktyczne zwykle podejmowane są przez osoby z wyższych i średnich szczebli struktury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4"/>
          <p:cNvSpPr/>
          <p:nvPr/>
        </p:nvSpPr>
        <p:spPr>
          <a:xfrm>
            <a:off x="2700360" y="1125360"/>
            <a:ext cx="5400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taktyczne – zwykle dotyczą zapewnienia warunków do sprawnego działania firmy lub organizacji. Decyzje taktyczne podejmuje si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jczęściej w celu zapewnienia firmie lub organizacji odpowiednich zasob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17" descr="5656308384_77514f9657_m.jpg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3649355698_cf6375407c_m.jpg"/>
          <p:cNvPicPr/>
          <p:nvPr/>
        </p:nvPicPr>
        <p:blipFill>
          <a:blip r:embed="rId1"/>
          <a:stretch/>
        </p:blipFill>
        <p:spPr>
          <a:xfrm>
            <a:off x="4572000" y="1413000"/>
            <a:ext cx="3695760" cy="2447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rostokąt 4"/>
          <p:cNvSpPr/>
          <p:nvPr/>
        </p:nvSpPr>
        <p:spPr>
          <a:xfrm>
            <a:off x="0" y="119700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– są to stosunkowo proste decyzje podejmowane w celu zaspokojenia bieżących potrzeb i rozwiązywania codziennych problemów. Decyzje operacyjne są często powtarzal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az 7" descr="5186734037_ff643f1cee_m.jpg"/>
          <p:cNvPicPr/>
          <p:nvPr/>
        </p:nvPicPr>
        <p:blipFill>
          <a:blip r:embed="rId2"/>
          <a:stretch/>
        </p:blipFill>
        <p:spPr>
          <a:xfrm>
            <a:off x="90000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8"/>
          <p:cNvSpPr/>
          <p:nvPr/>
        </p:nvSpPr>
        <p:spPr>
          <a:xfrm>
            <a:off x="3276720" y="4581360"/>
            <a:ext cx="49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są zwykle podejmowane przez osoby ze średniego i niższego szczebla struktury firmy lub organizac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unki podejmowania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rostokąt 4"/>
          <p:cNvSpPr/>
          <p:nvPr/>
        </p:nvSpPr>
        <p:spPr>
          <a:xfrm>
            <a:off x="0" y="90792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posiadanej wiedzy można wyznaczyć trzy rodzaje podejmowania decyz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5"/>
          <p:cNvGrpSpPr/>
          <p:nvPr/>
        </p:nvGrpSpPr>
        <p:grpSpPr>
          <a:xfrm>
            <a:off x="139680" y="1620720"/>
            <a:ext cx="2755800" cy="3578400"/>
            <a:chOff x="139680" y="1620720"/>
            <a:chExt cx="2755800" cy="3578400"/>
          </a:xfrm>
        </p:grpSpPr>
        <p:pic>
          <p:nvPicPr>
            <p:cNvPr id="229" name="Diagram 5" descr=""/>
            <p:cNvPicPr/>
            <p:nvPr/>
          </p:nvPicPr>
          <p:blipFill>
            <a:blip r:embed="rId1"/>
            <a:stretch/>
          </p:blipFill>
          <p:spPr>
            <a:xfrm>
              <a:off x="139680" y="1620720"/>
              <a:ext cx="275580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rostokąt 7"/>
            <p:cNvSpPr/>
            <p:nvPr/>
          </p:nvSpPr>
          <p:spPr>
            <a:xfrm>
              <a:off x="357840" y="1914480"/>
              <a:ext cx="21132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konsekwencje, które możemy przewidzieć, są nam znane i możemy być ich pewn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20"/>
          <p:cNvGrpSpPr/>
          <p:nvPr/>
        </p:nvGrpSpPr>
        <p:grpSpPr>
          <a:xfrm>
            <a:off x="2987640" y="2276640"/>
            <a:ext cx="2664000" cy="3779640"/>
            <a:chOff x="2987640" y="2276640"/>
            <a:chExt cx="2664000" cy="3779640"/>
          </a:xfrm>
        </p:grpSpPr>
        <p:pic>
          <p:nvPicPr>
            <p:cNvPr id="232" name="Diagram 17" descr=""/>
            <p:cNvPicPr/>
            <p:nvPr/>
          </p:nvPicPr>
          <p:blipFill>
            <a:blip r:embed="rId2"/>
            <a:stretch/>
          </p:blipFill>
          <p:spPr>
            <a:xfrm>
              <a:off x="2987640" y="2276640"/>
              <a:ext cx="266400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Prostokąt 18"/>
            <p:cNvSpPr/>
            <p:nvPr/>
          </p:nvSpPr>
          <p:spPr>
            <a:xfrm>
              <a:off x="3017880" y="2572200"/>
              <a:ext cx="2328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może pociągać za sobą wiele różnych konsekwencji i nie możemy z całą pewnością stwierdzić, jakie będą skutki decyzj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1"/>
          <p:cNvGrpSpPr/>
          <p:nvPr/>
        </p:nvGrpSpPr>
        <p:grpSpPr>
          <a:xfrm>
            <a:off x="5796000" y="3294000"/>
            <a:ext cx="2663640" cy="3564000"/>
            <a:chOff x="5796000" y="3294000"/>
            <a:chExt cx="2663640" cy="3564000"/>
          </a:xfrm>
        </p:grpSpPr>
        <p:pic>
          <p:nvPicPr>
            <p:cNvPr id="235" name="Diagram 16" descr=""/>
            <p:cNvPicPr/>
            <p:nvPr/>
          </p:nvPicPr>
          <p:blipFill>
            <a:blip r:embed="rId3"/>
            <a:stretch/>
          </p:blipFill>
          <p:spPr>
            <a:xfrm>
              <a:off x="5796000" y="3294000"/>
              <a:ext cx="2663640" cy="35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rostokąt 19"/>
            <p:cNvSpPr/>
            <p:nvPr/>
          </p:nvSpPr>
          <p:spPr>
            <a:xfrm>
              <a:off x="5865120" y="3795120"/>
              <a:ext cx="224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skutki, których nie znamy i nie możemy przewidzieć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podejmowanych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rostokąt 4"/>
          <p:cNvSpPr/>
          <p:nvPr/>
        </p:nvSpPr>
        <p:spPr>
          <a:xfrm>
            <a:off x="324000" y="1052640"/>
            <a:ext cx="72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decyzyjnym możemy uzyska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 5" descr=""/>
          <p:cNvPicPr/>
          <p:nvPr/>
        </p:nvPicPr>
        <p:blipFill>
          <a:blip r:embed="rId1"/>
          <a:stretch/>
        </p:blipFill>
        <p:spPr>
          <a:xfrm>
            <a:off x="-255600" y="1809720"/>
            <a:ext cx="9155160" cy="1262160"/>
          </a:xfrm>
          <a:prstGeom prst="rect">
            <a:avLst/>
          </a:prstGeom>
          <a:ln w="0">
            <a:noFill/>
          </a:ln>
        </p:spPr>
      </p:pic>
      <p:pic>
        <p:nvPicPr>
          <p:cNvPr id="245" name="Diagram 6" descr=""/>
          <p:cNvPicPr/>
          <p:nvPr/>
        </p:nvPicPr>
        <p:blipFill>
          <a:blip r:embed="rId2"/>
          <a:stretch/>
        </p:blipFill>
        <p:spPr>
          <a:xfrm>
            <a:off x="-255600" y="3395520"/>
            <a:ext cx="9155160" cy="1255680"/>
          </a:xfrm>
          <a:prstGeom prst="rect">
            <a:avLst/>
          </a:prstGeom>
          <a:ln w="0">
            <a:noFill/>
          </a:ln>
        </p:spPr>
      </p:pic>
      <p:pic>
        <p:nvPicPr>
          <p:cNvPr id="246" name="Diagram 7" descr=""/>
          <p:cNvPicPr/>
          <p:nvPr/>
        </p:nvPicPr>
        <p:blipFill>
          <a:blip r:embed="rId3"/>
          <a:stretch/>
        </p:blipFill>
        <p:spPr>
          <a:xfrm>
            <a:off x="-328680" y="5065560"/>
            <a:ext cx="915516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rostokąt 4"/>
          <p:cNvSpPr/>
          <p:nvPr/>
        </p:nvSpPr>
        <p:spPr>
          <a:xfrm>
            <a:off x="3492360" y="350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rugiej strony bardzo złym rozwiązaniem jest poddanie się, niepodejmowanie żadnych decyzji i czekanie, aż sytuacja sama się rozwiąż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jakoś to będzi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raz 5" descr="panika2.jpg"/>
          <p:cNvPicPr/>
          <p:nvPr/>
        </p:nvPicPr>
        <p:blipFill>
          <a:blip r:embed="rId1"/>
          <a:stretch/>
        </p:blipFill>
        <p:spPr>
          <a:xfrm>
            <a:off x="324000" y="2997360"/>
            <a:ext cx="3076560" cy="28670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rostokąt 9"/>
          <p:cNvSpPr/>
          <p:nvPr/>
        </p:nvSpPr>
        <p:spPr>
          <a:xfrm>
            <a:off x="250920" y="1125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wiąże się często z ryzykiem podjęcia złej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momencie gdy zorientujemy się, że decyzja przez nas podjęta jest zła, może się zdarzyć, że wpadniemy w panikę i zaczniemy podejmować kolejne nieprzemyślane decyzje. Ciągłe zmiany decyzji i miotanie może przynieść tylko większe szkody i problem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az 5" descr="albert].jpg"/>
          <p:cNvPicPr/>
          <p:nvPr/>
        </p:nvPicPr>
        <p:blipFill>
          <a:blip r:embed="rId1"/>
          <a:stretch/>
        </p:blipFill>
        <p:spPr>
          <a:xfrm>
            <a:off x="0" y="1712880"/>
            <a:ext cx="356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8"/>
          <p:cNvGrpSpPr/>
          <p:nvPr/>
        </p:nvGrpSpPr>
        <p:grpSpPr>
          <a:xfrm>
            <a:off x="3492360" y="1197000"/>
            <a:ext cx="4608720" cy="2504160"/>
            <a:chOff x="3492360" y="1197000"/>
            <a:chExt cx="4608720" cy="2504160"/>
          </a:xfrm>
        </p:grpSpPr>
        <p:sp>
          <p:nvSpPr>
            <p:cNvPr id="58" name="Objaśnienie prostokątne zaokrąglone 6"/>
            <p:cNvSpPr/>
            <p:nvPr/>
          </p:nvSpPr>
          <p:spPr>
            <a:xfrm>
              <a:off x="3492360" y="1197000"/>
              <a:ext cx="4608720" cy="2232000"/>
            </a:xfrm>
            <a:prstGeom prst="wedgeRoundRectCallout">
              <a:avLst>
                <a:gd name="adj1" fmla="val -85328"/>
                <a:gd name="adj2" fmla="val 12038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7"/>
            <p:cNvSpPr/>
            <p:nvPr/>
          </p:nvSpPr>
          <p:spPr>
            <a:xfrm>
              <a:off x="3492360" y="1412640"/>
              <a:ext cx="460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instein powiedzia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dybym miał w ciągu godziny podjąć decyzj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miałbym na to jedną godzinę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przez 40 minut badałbym proble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z 15 minut sprawdzałbym, czy to dobrze zrobiłem i w ciągu 5 minut podjąłbym  decyzję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upa 19"/>
          <p:cNvGrpSpPr/>
          <p:nvPr/>
        </p:nvGrpSpPr>
        <p:grpSpPr>
          <a:xfrm>
            <a:off x="179280" y="1052640"/>
            <a:ext cx="6121440" cy="1910160"/>
            <a:chOff x="179280" y="1052640"/>
            <a:chExt cx="6121440" cy="1910160"/>
          </a:xfrm>
        </p:grpSpPr>
        <p:grpSp>
          <p:nvGrpSpPr>
            <p:cNvPr id="264" name="Grupa 10"/>
            <p:cNvGrpSpPr/>
            <p:nvPr/>
          </p:nvGrpSpPr>
          <p:grpSpPr>
            <a:xfrm>
              <a:off x="683280" y="1556640"/>
              <a:ext cx="5617440" cy="1406160"/>
              <a:chOff x="683280" y="1556640"/>
              <a:chExt cx="5617440" cy="1406160"/>
            </a:xfrm>
          </p:grpSpPr>
          <p:pic>
            <p:nvPicPr>
              <p:cNvPr id="265" name="Prostokąt zaokrąglony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80" y="1556640"/>
                <a:ext cx="5617440" cy="10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Prostokąt 12"/>
              <p:cNvSpPr/>
              <p:nvPr/>
            </p:nvSpPr>
            <p:spPr>
              <a:xfrm>
                <a:off x="970200" y="1649160"/>
                <a:ext cx="49525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takich sytuacjach warto spokojnie jeszcze raz przeanalizować sytuację i podjąć działania, które pozwolą zminimalizować skutki złych decyzji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7" name="Obraz 6" descr="wykrzyknikkkkk.jpg"/>
            <p:cNvPicPr/>
            <p:nvPr/>
          </p:nvPicPr>
          <p:blipFill>
            <a:blip r:embed="rId2"/>
            <a:stretch/>
          </p:blipFill>
          <p:spPr>
            <a:xfrm>
              <a:off x="179280" y="1052640"/>
              <a:ext cx="755640" cy="75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upa 20"/>
          <p:cNvGrpSpPr/>
          <p:nvPr/>
        </p:nvGrpSpPr>
        <p:grpSpPr>
          <a:xfrm>
            <a:off x="971640" y="2781360"/>
            <a:ext cx="6629400" cy="1838160"/>
            <a:chOff x="971640" y="2781360"/>
            <a:chExt cx="6629400" cy="1838160"/>
          </a:xfrm>
        </p:grpSpPr>
        <p:grpSp>
          <p:nvGrpSpPr>
            <p:cNvPr id="269" name="Grupa 13"/>
            <p:cNvGrpSpPr/>
            <p:nvPr/>
          </p:nvGrpSpPr>
          <p:grpSpPr>
            <a:xfrm>
              <a:off x="1389600" y="3023640"/>
              <a:ext cx="6211440" cy="1595880"/>
              <a:chOff x="1389600" y="3023640"/>
              <a:chExt cx="6211440" cy="1595880"/>
            </a:xfrm>
          </p:grpSpPr>
          <p:pic>
            <p:nvPicPr>
              <p:cNvPr id="270" name="Prostokąt zaokrąglony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9600" y="3023640"/>
                <a:ext cx="6211440" cy="15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Prostokąt 15"/>
              <p:cNvSpPr/>
              <p:nvPr/>
            </p:nvSpPr>
            <p:spPr>
              <a:xfrm>
                <a:off x="1546920" y="3141000"/>
                <a:ext cx="58323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Jednocześnie należy powstrzymać się od szukania dziury w całym, ponieważ takie działanie może jedynie opóźnić podjęcie właściwej decyzji i spowodować większy chaos i szkody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2" name="Obraz 5" descr="wykrzyknikkkkk.jpg"/>
            <p:cNvPicPr/>
            <p:nvPr/>
          </p:nvPicPr>
          <p:blipFill>
            <a:blip r:embed="rId4"/>
            <a:stretch/>
          </p:blipFill>
          <p:spPr>
            <a:xfrm>
              <a:off x="971640" y="2781360"/>
              <a:ext cx="755280" cy="75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upa 21"/>
          <p:cNvGrpSpPr/>
          <p:nvPr/>
        </p:nvGrpSpPr>
        <p:grpSpPr>
          <a:xfrm>
            <a:off x="2050920" y="4724280"/>
            <a:ext cx="6121440" cy="1846800"/>
            <a:chOff x="2050920" y="4724280"/>
            <a:chExt cx="6121440" cy="1846800"/>
          </a:xfrm>
        </p:grpSpPr>
        <p:grpSp>
          <p:nvGrpSpPr>
            <p:cNvPr id="274" name="Grupa 16"/>
            <p:cNvGrpSpPr/>
            <p:nvPr/>
          </p:nvGrpSpPr>
          <p:grpSpPr>
            <a:xfrm>
              <a:off x="2554920" y="5156280"/>
              <a:ext cx="5617440" cy="1414800"/>
              <a:chOff x="2554920" y="5156280"/>
              <a:chExt cx="5617440" cy="1414800"/>
            </a:xfrm>
          </p:grpSpPr>
          <p:pic>
            <p:nvPicPr>
              <p:cNvPr id="275" name="Prostokąt zaokrąglony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4920" y="5156280"/>
                <a:ext cx="5617440" cy="132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Prostokąt 18"/>
              <p:cNvSpPr/>
              <p:nvPr/>
            </p:nvSpPr>
            <p:spPr>
              <a:xfrm>
                <a:off x="2705760" y="5257440"/>
                <a:ext cx="50889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arto pamiętać, że błędne decyzje mogą się zdarzyć każdemu, ważne jest, aby uczyć się na błędach i traktować każdą porażkę i błąd jako zaczątek sukcesu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7" name="Obraz 4" descr="wykrzyknikkkkk.jpg"/>
            <p:cNvPicPr/>
            <p:nvPr/>
          </p:nvPicPr>
          <p:blipFill>
            <a:blip r:embed="rId6"/>
            <a:stretch/>
          </p:blipFill>
          <p:spPr>
            <a:xfrm>
              <a:off x="2050920" y="4724280"/>
              <a:ext cx="755640" cy="7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8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upa 23"/>
          <p:cNvGrpSpPr/>
          <p:nvPr/>
        </p:nvGrpSpPr>
        <p:grpSpPr>
          <a:xfrm>
            <a:off x="539640" y="549360"/>
            <a:ext cx="7417080" cy="2232000"/>
            <a:chOff x="539640" y="549360"/>
            <a:chExt cx="7417080" cy="2232000"/>
          </a:xfrm>
        </p:grpSpPr>
        <p:sp>
          <p:nvSpPr>
            <p:cNvPr id="287" name="Prostokąt zaokrąglony 20"/>
            <p:cNvSpPr/>
            <p:nvPr/>
          </p:nvSpPr>
          <p:spPr>
            <a:xfrm>
              <a:off x="539640" y="549360"/>
              <a:ext cx="7417080" cy="223200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ole tekstowe 18"/>
            <p:cNvSpPr/>
            <p:nvPr/>
          </p:nvSpPr>
          <p:spPr>
            <a:xfrm>
              <a:off x="683640" y="765360"/>
              <a:ext cx="712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olność polega na tym, aby śmiało rozpatrywać każdą sytuację, w jaką wpakuje nas życie, i brać na siebie wszelką wynikłą stąd odpowiedzialność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                                                      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ean-Paul Sar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upa 24"/>
          <p:cNvGrpSpPr/>
          <p:nvPr/>
        </p:nvGrpSpPr>
        <p:grpSpPr>
          <a:xfrm>
            <a:off x="971640" y="3357720"/>
            <a:ext cx="5472000" cy="1655640"/>
            <a:chOff x="971640" y="3357720"/>
            <a:chExt cx="5472000" cy="1655640"/>
          </a:xfrm>
        </p:grpSpPr>
        <p:sp>
          <p:nvSpPr>
            <p:cNvPr id="290" name="Prostokąt zaokrąglony 22"/>
            <p:cNvSpPr/>
            <p:nvPr/>
          </p:nvSpPr>
          <p:spPr>
            <a:xfrm>
              <a:off x="1116000" y="3357720"/>
              <a:ext cx="5327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ole tekstowe 21"/>
            <p:cNvSpPr/>
            <p:nvPr/>
          </p:nvSpPr>
          <p:spPr>
            <a:xfrm>
              <a:off x="971640" y="3429000"/>
              <a:ext cx="5472000" cy="14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yć człowiekiem to właśnie być odpowiedzialnym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                        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ntoine de Saint-Exupé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i odpowiedzialnoś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ole tekstowe 14"/>
          <p:cNvSpPr/>
          <p:nvPr/>
        </p:nvSpPr>
        <p:spPr>
          <a:xfrm>
            <a:off x="2050920" y="1484280"/>
            <a:ext cx="6193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bardzo ważny element życia ludzkiego. Kluczową rolę przy podejmowaniu decyzji odgrywają pojęcia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odpowiedzi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racjon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15"/>
          <p:cNvSpPr/>
          <p:nvPr/>
        </p:nvSpPr>
        <p:spPr>
          <a:xfrm>
            <a:off x="2050920" y="3573360"/>
            <a:ext cx="62661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łowiek odpowiedzialny to taki, który potrafi podejmować nawet najtrudniejsze decyzje i ponosić ich konsekwen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ole tekstowe 16"/>
          <p:cNvSpPr/>
          <p:nvPr/>
        </p:nvSpPr>
        <p:spPr>
          <a:xfrm>
            <a:off x="539640" y="4869000"/>
            <a:ext cx="770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odnosi się również do podejmowania decyzji i koncentruje się na oddzieleniu emocji od zdrowego rozs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511280" cy="2970360"/>
          </a:xfrm>
          <a:prstGeom prst="rect">
            <a:avLst/>
          </a:prstGeom>
          <a:ln w="0">
            <a:noFill/>
          </a:ln>
        </p:spPr>
      </p:pic>
      <p:sp>
        <p:nvSpPr>
          <p:cNvPr id="30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Diagram 8" descr=""/>
          <p:cNvPicPr/>
          <p:nvPr/>
        </p:nvPicPr>
        <p:blipFill>
          <a:blip r:embed="rId2"/>
          <a:stretch/>
        </p:blipFill>
        <p:spPr>
          <a:xfrm>
            <a:off x="450720" y="743040"/>
            <a:ext cx="7809120" cy="5151240"/>
          </a:xfrm>
          <a:prstGeom prst="rect">
            <a:avLst/>
          </a:prstGeom>
          <a:ln w="0">
            <a:noFill/>
          </a:ln>
        </p:spPr>
      </p:pic>
      <p:sp>
        <p:nvSpPr>
          <p:cNvPr id="309" name="pole tekstowe 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ole tekstowe 7"/>
          <p:cNvSpPr/>
          <p:nvPr/>
        </p:nvSpPr>
        <p:spPr>
          <a:xfrm>
            <a:off x="324000" y="333360"/>
            <a:ext cx="7920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jęciami racjonalności i odpowiedzialności wiążą się również pojęcia rzetelności i solidnośc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upa 18"/>
          <p:cNvGrpSpPr/>
          <p:nvPr/>
        </p:nvGrpSpPr>
        <p:grpSpPr>
          <a:xfrm>
            <a:off x="468360" y="1749600"/>
            <a:ext cx="3598920" cy="3965400"/>
            <a:chOff x="468360" y="1749600"/>
            <a:chExt cx="3598920" cy="3965400"/>
          </a:xfrm>
        </p:grpSpPr>
        <p:sp>
          <p:nvSpPr>
            <p:cNvPr id="316" name="Dowolny kształt 14"/>
            <p:cNvSpPr/>
            <p:nvPr/>
          </p:nvSpPr>
          <p:spPr>
            <a:xfrm>
              <a:off x="468360" y="1749600"/>
              <a:ext cx="3598920" cy="87768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rzetelne to inaczej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Dowolny kształt 15"/>
            <p:cNvSpPr/>
            <p:nvPr/>
          </p:nvSpPr>
          <p:spPr>
            <a:xfrm>
              <a:off x="468360" y="2627280"/>
              <a:ext cx="3598920" cy="3087720"/>
            </a:xfrm>
            <a:prstGeom prst="pie">
              <a:avLst/>
            </a:prstGeom>
            <a:solidFill>
              <a:srgbClr val="e8d0d0">
                <a:alpha val="90000"/>
              </a:srgbClr>
            </a:solidFill>
            <a:ln w="25560">
              <a:solidFill>
                <a:srgbClr val="e8d0d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pełniające należycie swe obowiązki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, jakie powinny być, odpowiadające wymaganiom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stępujące zgodne z prawdą, wiarygodne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upa 19"/>
          <p:cNvGrpSpPr/>
          <p:nvPr/>
        </p:nvGrpSpPr>
        <p:grpSpPr>
          <a:xfrm>
            <a:off x="4572000" y="1749600"/>
            <a:ext cx="3600360" cy="3965400"/>
            <a:chOff x="4572000" y="1749600"/>
            <a:chExt cx="3600360" cy="3965400"/>
          </a:xfrm>
        </p:grpSpPr>
        <p:sp>
          <p:nvSpPr>
            <p:cNvPr id="319" name="Dowolny kształt 16"/>
            <p:cNvSpPr/>
            <p:nvPr/>
          </p:nvSpPr>
          <p:spPr>
            <a:xfrm>
              <a:off x="4572000" y="1749600"/>
              <a:ext cx="3600360" cy="87768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solidne to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Dowolny kształt 17"/>
            <p:cNvSpPr/>
            <p:nvPr/>
          </p:nvSpPr>
          <p:spPr>
            <a:xfrm>
              <a:off x="4572000" y="2627280"/>
              <a:ext cx="3600360" cy="3087720"/>
            </a:xfrm>
            <a:prstGeom prst="pie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dee7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 na, których można polegać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dne zaufania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52800" cy="4248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lety rzetelności/ 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ole tekstowe 6"/>
          <p:cNvSpPr/>
          <p:nvPr/>
        </p:nvSpPr>
        <p:spPr>
          <a:xfrm>
            <a:off x="468360" y="1341360"/>
            <a:ext cx="6119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korzyści rzetelności i 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racowitej, sumiennej, wykonującej swoje obowiązki z największą dbałością i staranności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odejmującej decyzje przemyślane, a nie pod wpływem chwi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w pracy i życiu osobist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tus autorytetu, osoby godnej zauf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pozycja społecz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towarzysk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jednywanie osó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3544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dy nierzetelności/ nie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6"/>
          <p:cNvSpPr/>
          <p:nvPr/>
        </p:nvSpPr>
        <p:spPr>
          <a:xfrm>
            <a:off x="556560" y="1557360"/>
            <a:ext cx="55558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skutki nierzetelności i nie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zaufania współ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blemy w pracy - zła sława, brak zlec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udności ze zjednywaniem sobie przyjació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wiarygod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chęć otocz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mot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1748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mo economic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upa 14"/>
          <p:cNvGrpSpPr/>
          <p:nvPr/>
        </p:nvGrpSpPr>
        <p:grpSpPr>
          <a:xfrm>
            <a:off x="3564000" y="1413000"/>
            <a:ext cx="4537080" cy="2303280"/>
            <a:chOff x="3564000" y="1413000"/>
            <a:chExt cx="4537080" cy="2303280"/>
          </a:xfrm>
        </p:grpSpPr>
        <p:sp>
          <p:nvSpPr>
            <p:cNvPr id="345" name="Prostokąt zaokrąglony 7"/>
            <p:cNvSpPr/>
            <p:nvPr/>
          </p:nvSpPr>
          <p:spPr>
            <a:xfrm>
              <a:off x="3564000" y="1413000"/>
              <a:ext cx="4537080" cy="23032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ole tekstowe 6"/>
            <p:cNvSpPr/>
            <p:nvPr/>
          </p:nvSpPr>
          <p:spPr>
            <a:xfrm>
              <a:off x="3779640" y="1556640"/>
              <a:ext cx="41054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Homo economicus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to koncepcja, zgodnie z którą człowiek jest istotą, która z zasady zachowuje się racjonalnie. </a:t>
              </a: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achowanie jest przemyślanym rachunkiem zysków i str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ole tekstowe 8"/>
          <p:cNvSpPr/>
          <p:nvPr/>
        </p:nvSpPr>
        <p:spPr>
          <a:xfrm>
            <a:off x="468360" y="3860640"/>
            <a:ext cx="76327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dług powyższej koncepcji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strat niż korzyści, nie powinny być wykonywan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zysków niż strat i są racjonalne, powinny być wykona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ole tekstowe 7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wórcy podejścia homo economicus w XIX w. podkreślali fakt, że ta te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nosi się głównie do zachowań związanych z ekonomi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395280" y="3716280"/>
            <a:ext cx="789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a homo economicus przez dziesięciolecia zyskała zarówno zwolenników, twierdzących, że koncepcja ta wyjaśnia ekonomiczne działania człowieka, jak i przeciwników, którzy twierdzą, że człowiek nawet w dziedzinach ekonomicznych nie zawsze dokonuje racjonalnych wybor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356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rostokąt 4"/>
          <p:cNvSpPr/>
          <p:nvPr/>
        </p:nvSpPr>
        <p:spPr>
          <a:xfrm>
            <a:off x="0" y="1125360"/>
            <a:ext cx="82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siejszej rzeczywistości ilość możliwości, a co za tym idzie ilość podejmowanych decyzji znacząco wzrasta. Aby odnaleźć się w takiej rzeczywistości, dobrze jest mieć umiejętność szybkiego i rozsądnego podejmowania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Obraz 5" descr="sowa.jpg"/>
          <p:cNvPicPr/>
          <p:nvPr/>
        </p:nvPicPr>
        <p:blipFill>
          <a:blip r:embed="rId1"/>
          <a:stretch/>
        </p:blipFill>
        <p:spPr>
          <a:xfrm>
            <a:off x="457200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361" name="Prostokąt 6"/>
          <p:cNvSpPr/>
          <p:nvPr/>
        </p:nvSpPr>
        <p:spPr>
          <a:xfrm>
            <a:off x="0" y="393372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iejętność szybkiego, trafnego i odważnego podejmowania decyzji jest jedn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ażniejszych cech współczesnych ludzi sukce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6" descr="4787276278_c4e2e44832_m.jpg"/>
          <p:cNvPicPr/>
          <p:nvPr/>
        </p:nvPicPr>
        <p:blipFill>
          <a:blip r:embed="rId1"/>
          <a:stretch/>
        </p:blipFill>
        <p:spPr>
          <a:xfrm>
            <a:off x="2411280" y="3186000"/>
            <a:ext cx="3673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rostokąt 9"/>
          <p:cNvSpPr/>
          <p:nvPr/>
        </p:nvSpPr>
        <p:spPr>
          <a:xfrm>
            <a:off x="395280" y="2349360"/>
            <a:ext cx="777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 proceduralno-technologiczną cechę proce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rządzania o wielorakich uwarunkowaniach ekonomicznych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socjologicznych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J. Targal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10"/>
          <p:cNvSpPr/>
          <p:nvPr/>
        </p:nvSpPr>
        <p:spPr>
          <a:xfrm>
            <a:off x="250920" y="1197000"/>
            <a:ext cx="76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oces polegający na zbieraniu i przetwarza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i o przyszłym działaniu. (A.K. Koźmiń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upa 14"/>
          <p:cNvGrpSpPr/>
          <p:nvPr/>
        </p:nvGrpSpPr>
        <p:grpSpPr>
          <a:xfrm>
            <a:off x="539640" y="1484280"/>
            <a:ext cx="7704360" cy="4561920"/>
            <a:chOff x="539640" y="1484280"/>
            <a:chExt cx="7704360" cy="4561920"/>
          </a:xfrm>
        </p:grpSpPr>
        <p:sp>
          <p:nvSpPr>
            <p:cNvPr id="372" name="pole tekstowe 7"/>
            <p:cNvSpPr/>
            <p:nvPr/>
          </p:nvSpPr>
          <p:spPr>
            <a:xfrm>
              <a:off x="539640" y="4580640"/>
              <a:ext cx="7704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związku z tym pielęgnowanie i rozwój tych cech z pewnością przyczynia się do osiągania sukcesów zarówno w życiu prywatnym, jak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zaw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upa 9"/>
            <p:cNvGrpSpPr/>
            <p:nvPr/>
          </p:nvGrpSpPr>
          <p:grpSpPr>
            <a:xfrm>
              <a:off x="611640" y="1484280"/>
              <a:ext cx="7632360" cy="2837160"/>
              <a:chOff x="611640" y="1484280"/>
              <a:chExt cx="7632360" cy="2837160"/>
            </a:xfrm>
          </p:grpSpPr>
          <p:sp>
            <p:nvSpPr>
              <p:cNvPr id="374" name="pole tekstowe 6"/>
              <p:cNvSpPr/>
              <p:nvPr/>
            </p:nvSpPr>
            <p:spPr>
              <a:xfrm>
                <a:off x="3491640" y="1484280"/>
                <a:ext cx="47523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jęcia, takie jak racjonalność, odpowiedzialność, solidność i rzetelność, są określeniami bardzo pozytywnymi. Wskazują na osoby godne zaufania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i rozsądne, które są bardzo cenione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społeczeństwi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640" y="1844280"/>
                <a:ext cx="2842560" cy="180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6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4" descr="dec.jpg"/>
          <p:cNvPicPr/>
          <p:nvPr/>
        </p:nvPicPr>
        <p:blipFill>
          <a:blip r:embed="rId1"/>
          <a:stretch/>
        </p:blipFill>
        <p:spPr>
          <a:xfrm>
            <a:off x="4284720" y="3352680"/>
            <a:ext cx="3208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8"/>
          <p:cNvSpPr/>
          <p:nvPr/>
        </p:nvSpPr>
        <p:spPr>
          <a:xfrm>
            <a:off x="468360" y="1197000"/>
            <a:ext cx="7848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niezwykle ważnym elementem życia człowie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decyzja, którą podejmujemy, ma większy lub mniejszy wpływ na nas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e oraz na sposób funkcjonowania naszego otoc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wybieramy z wielu różnych możliwości i rzadko mamy pewność, ż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z wybór jest dob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408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jęcia istotne w procesie podejmowania decyzji to równie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Diagram 4" descr=""/>
          <p:cNvPicPr/>
          <p:nvPr/>
        </p:nvPicPr>
        <p:blipFill>
          <a:blip r:embed="rId1"/>
          <a:stretch/>
        </p:blipFill>
        <p:spPr>
          <a:xfrm>
            <a:off x="-6480" y="2090880"/>
            <a:ext cx="8328240" cy="156024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5" descr=""/>
          <p:cNvPicPr/>
          <p:nvPr/>
        </p:nvPicPr>
        <p:blipFill>
          <a:blip r:embed="rId2"/>
          <a:stretch/>
        </p:blipFill>
        <p:spPr>
          <a:xfrm>
            <a:off x="-6480" y="4035600"/>
            <a:ext cx="8328240" cy="1633320"/>
          </a:xfrm>
          <a:prstGeom prst="rect">
            <a:avLst/>
          </a:prstGeom>
          <a:ln w="0">
            <a:noFill/>
          </a:ln>
        </p:spPr>
      </p:pic>
      <p:grpSp>
        <p:nvGrpSpPr>
          <p:cNvPr id="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az 13" descr="4431759542_a81fef43e0_m.jpg"/>
          <p:cNvPicPr/>
          <p:nvPr/>
        </p:nvPicPr>
        <p:blipFill>
          <a:blip r:embed="rId1"/>
          <a:stretch/>
        </p:blipFill>
        <p:spPr>
          <a:xfrm>
            <a:off x="0" y="2637000"/>
            <a:ext cx="2697120" cy="2697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4"/>
          <p:cNvGrpSpPr/>
          <p:nvPr/>
        </p:nvGrpSpPr>
        <p:grpSpPr>
          <a:xfrm>
            <a:off x="2556000" y="2205000"/>
            <a:ext cx="5616360" cy="1194840"/>
            <a:chOff x="2556000" y="2205000"/>
            <a:chExt cx="5616360" cy="1194840"/>
          </a:xfrm>
        </p:grpSpPr>
        <p:pic>
          <p:nvPicPr>
            <p:cNvPr id="95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556000" y="2205000"/>
              <a:ext cx="5616360" cy="11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6"/>
            <p:cNvSpPr/>
            <p:nvPr/>
          </p:nvSpPr>
          <p:spPr>
            <a:xfrm>
              <a:off x="2804040" y="230580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ejmowanie decyzji jest procesem rozłożonym w czasie, decyzja jest efektem końcowym tego proce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upa 7"/>
          <p:cNvGrpSpPr/>
          <p:nvPr/>
        </p:nvGrpSpPr>
        <p:grpSpPr>
          <a:xfrm>
            <a:off x="2556000" y="3716280"/>
            <a:ext cx="5616360" cy="1098000"/>
            <a:chOff x="2556000" y="3716280"/>
            <a:chExt cx="5616360" cy="1098000"/>
          </a:xfrm>
        </p:grpSpPr>
        <p:pic>
          <p:nvPicPr>
            <p:cNvPr id="98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556000" y="3716280"/>
              <a:ext cx="5616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9"/>
            <p:cNvSpPr/>
            <p:nvPr/>
          </p:nvSpPr>
          <p:spPr>
            <a:xfrm>
              <a:off x="2804040" y="380556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jęcie podejmowania decyzji możemy znaleźć w różnych dziedzinach nauki (psychologii, ekonomii i filozofii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10"/>
          <p:cNvGrpSpPr/>
          <p:nvPr/>
        </p:nvGrpSpPr>
        <p:grpSpPr>
          <a:xfrm>
            <a:off x="2556000" y="5084640"/>
            <a:ext cx="5616360" cy="789120"/>
            <a:chOff x="2556000" y="5084640"/>
            <a:chExt cx="5616360" cy="789120"/>
          </a:xfrm>
        </p:grpSpPr>
        <p:pic>
          <p:nvPicPr>
            <p:cNvPr id="101" name="Prostokąt zaokrąglony 11" descr=""/>
            <p:cNvPicPr/>
            <p:nvPr/>
          </p:nvPicPr>
          <p:blipFill>
            <a:blip r:embed="rId4"/>
            <a:stretch/>
          </p:blipFill>
          <p:spPr>
            <a:xfrm>
              <a:off x="2556000" y="5084640"/>
              <a:ext cx="5616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rostokąt 12"/>
            <p:cNvSpPr/>
            <p:nvPr/>
          </p:nvSpPr>
          <p:spPr>
            <a:xfrm>
              <a:off x="2804040" y="5169960"/>
              <a:ext cx="492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ces decyzyjny może być zarówno indywidualny, jak również grupow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ole tekstowe 22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rostokąt 25"/>
          <p:cNvSpPr/>
          <p:nvPr/>
        </p:nvSpPr>
        <p:spPr>
          <a:xfrm>
            <a:off x="0" y="98100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czas analizy definicji podejmowania decyzji warto zwrócić uwagę na kilka kwest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jęcie decyzji jest zwykle efektem końcowym procesu decyzyjn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kłada się z następujących etapów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1444680" y="205416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2" name="Diagram 5" descr=""/>
          <p:cNvPicPr/>
          <p:nvPr/>
        </p:nvPicPr>
        <p:blipFill>
          <a:blip r:embed="rId2"/>
          <a:stretch/>
        </p:blipFill>
        <p:spPr>
          <a:xfrm>
            <a:off x="1444680" y="2846520"/>
            <a:ext cx="6151680" cy="950760"/>
          </a:xfrm>
          <a:prstGeom prst="rect">
            <a:avLst/>
          </a:prstGeom>
          <a:ln w="0">
            <a:noFill/>
          </a:ln>
        </p:spPr>
      </p:pic>
      <p:pic>
        <p:nvPicPr>
          <p:cNvPr id="113" name="Diagram 6" descr=""/>
          <p:cNvPicPr/>
          <p:nvPr/>
        </p:nvPicPr>
        <p:blipFill>
          <a:blip r:embed="rId3"/>
          <a:stretch/>
        </p:blipFill>
        <p:spPr>
          <a:xfrm>
            <a:off x="1444680" y="3638520"/>
            <a:ext cx="615168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 8" descr=""/>
          <p:cNvPicPr/>
          <p:nvPr/>
        </p:nvPicPr>
        <p:blipFill>
          <a:blip r:embed="rId4"/>
          <a:stretch/>
        </p:blipFill>
        <p:spPr>
          <a:xfrm>
            <a:off x="1444680" y="4505400"/>
            <a:ext cx="6151680" cy="944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 9" descr=""/>
          <p:cNvPicPr/>
          <p:nvPr/>
        </p:nvPicPr>
        <p:blipFill>
          <a:blip r:embed="rId5"/>
          <a:stretch/>
        </p:blipFill>
        <p:spPr>
          <a:xfrm>
            <a:off x="1444680" y="536400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Strzałka w dół 10" descr=""/>
          <p:cNvPicPr/>
          <p:nvPr/>
        </p:nvPicPr>
        <p:blipFill>
          <a:blip r:embed="rId6"/>
          <a:stretch/>
        </p:blipFill>
        <p:spPr>
          <a:xfrm>
            <a:off x="6973920" y="260352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7" name="Strzałka w dół 11" descr=""/>
          <p:cNvPicPr/>
          <p:nvPr/>
        </p:nvPicPr>
        <p:blipFill>
          <a:blip r:embed="rId7"/>
          <a:stretch/>
        </p:blipFill>
        <p:spPr>
          <a:xfrm>
            <a:off x="6973920" y="3395520"/>
            <a:ext cx="523800" cy="640080"/>
          </a:xfrm>
          <a:prstGeom prst="rect">
            <a:avLst/>
          </a:prstGeom>
          <a:ln w="0">
            <a:noFill/>
          </a:ln>
        </p:spPr>
      </p:pic>
      <p:pic>
        <p:nvPicPr>
          <p:cNvPr id="118" name="Strzałka w dół 12" descr=""/>
          <p:cNvPicPr/>
          <p:nvPr/>
        </p:nvPicPr>
        <p:blipFill>
          <a:blip r:embed="rId8"/>
          <a:stretch/>
        </p:blipFill>
        <p:spPr>
          <a:xfrm>
            <a:off x="6973920" y="418788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9" name="Strzałka w dół 13" descr=""/>
          <p:cNvPicPr/>
          <p:nvPr/>
        </p:nvPicPr>
        <p:blipFill>
          <a:blip r:embed="rId9"/>
          <a:stretch/>
        </p:blipFill>
        <p:spPr>
          <a:xfrm>
            <a:off x="6973920" y="5126040"/>
            <a:ext cx="523800" cy="6350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1" name="Picture 8" descr=""/>
            <p:cNvPicPr/>
            <p:nvPr/>
          </p:nvPicPr>
          <p:blipFill>
            <a:blip r:embed="rId10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1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6" descr="5710848123_edf3858055_m.jpg"/>
          <p:cNvPicPr/>
          <p:nvPr/>
        </p:nvPicPr>
        <p:blipFill>
          <a:blip r:embed="rId1"/>
          <a:srcRect l="26378" t="0" r="27461" b="0"/>
          <a:stretch/>
        </p:blipFill>
        <p:spPr>
          <a:xfrm>
            <a:off x="0" y="2708280"/>
            <a:ext cx="2843280" cy="3411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26920" y="2491920"/>
            <a:ext cx="5689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zie powstał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dotyczy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przyczyny powstania problemu decyzyjnego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ażny jest to problem i na co może mieć wpły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jesteśmy w stanie podjąć decyzję samodzielnie czy potrzebne nam będzie wsparc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5"/>
          <p:cNvSpPr/>
          <p:nvPr/>
        </p:nvSpPr>
        <p:spPr>
          <a:xfrm>
            <a:off x="324000" y="105264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sytuacji decyzyjnej – jest to wstępna faza procesu decyzyjnego, polegająca na analizie stanu obecnego oraz problemu, jaki wystąpił. Jest to głównie zbieranie informacji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raz 9" descr="5656309260_45bcc7c7aa_m.jpg"/>
          <p:cNvPicPr/>
          <p:nvPr/>
        </p:nvPicPr>
        <p:blipFill>
          <a:blip r:embed="rId1"/>
          <a:srcRect l="22428" t="0" r="0" b="0"/>
          <a:stretch/>
        </p:blipFill>
        <p:spPr>
          <a:xfrm>
            <a:off x="0" y="981000"/>
            <a:ext cx="236376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Obraz 5" descr="lupa.jpg"/>
          <p:cNvPicPr/>
          <p:nvPr/>
        </p:nvPicPr>
        <p:blipFill>
          <a:blip r:embed="rId2"/>
          <a:srcRect l="0" t="0" r="0" b="11811"/>
          <a:stretch/>
        </p:blipFill>
        <p:spPr>
          <a:xfrm>
            <a:off x="1835280" y="2736720"/>
            <a:ext cx="6840360" cy="4121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4"/>
          <p:cNvSpPr/>
          <p:nvPr/>
        </p:nvSpPr>
        <p:spPr>
          <a:xfrm>
            <a:off x="1835280" y="1125360"/>
            <a:ext cx="622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nie możliwych wariantów decyzji – na tym etapie zajmujemy się poszukiwaniem możliwych rozwiązań problemu. W czasie rozpoznawania możliwych wariantów można stworzyć różne scenariusze, które pokażą, jakie konsekwencje spowoduje podjęcie takiej a nie innej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6"/>
          <p:cNvSpPr/>
          <p:nvPr/>
        </p:nvSpPr>
        <p:spPr>
          <a:xfrm>
            <a:off x="2627280" y="4005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em tego etapu powinno być znalezienie jak największej liczby możli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ań dan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49:45Z</dcterms:modified>
  <cp:revision>65</cp:revision>
  <dc:subject/>
  <dc:title>Slajd 1</dc:title>
</cp:coreProperties>
</file>